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BFE-E631-4126-97D9-59A24B0C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BEF-7AF6-4FCA-86BD-12769AED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8F1-B131-44D4-8284-DC2F6569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8A7-5125-46FA-897C-B5D47664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2F87-4B52-40D6-AC4C-546BE9DB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4340-E99B-4DA2-B28D-0B130EE1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2CCE-104B-4DAD-A847-CF24935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3DD-80A3-466C-A6AC-025B1A30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0DE8-3FF3-4D52-A2C8-FF3A1B0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4C63-78F3-4823-A887-C1AA1811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E4D0-434F-457C-8AB8-B389049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FB7-CFA6-4FC0-B9B6-BFACB6A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DB79-57CE-46E3-AA99-AFFCFF2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E4EC-0963-4779-A990-88388497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82E6-7A6B-43C2-A84E-DD9960D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7364-9E2B-4960-B66C-D3667764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755B-A31F-425A-9D89-986CF8D0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64B9-27D6-40B8-A256-924A3C99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6FF3-8900-4EDD-A31E-7597362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460B-2DA5-4766-99A0-2D51FA73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F375-B1C0-48CC-A6A6-76610449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1266-2836-4D2A-B126-EC30940F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ECF-BB3F-476D-BC62-DEC2E6F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6AB3-70D6-4BF2-8235-D47AF46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49ED-328B-40AE-B128-AEAE5B94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1F54-1C44-4E65-93B8-323214A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5DC0-DE0F-4E67-98AF-A03AF36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96E6-9366-40EC-BAF9-B6627FBD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CE54-E6F0-4B29-9E69-1D668812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A045-5914-43B3-A9F3-7A24B67D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E5CA-D8AA-4BB4-BBD5-2A4CC0F4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F114D-114C-4E15-A7E1-32295A36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7CA1-29DB-4E91-B67D-3016E3A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F22-693D-4124-A933-A7F03F0D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7B78-3907-47A6-8B7D-AA4412B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DFB2-BC2E-4EAC-8145-CF80F59D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1BBB-BD4E-4870-85EC-B0C1ECA3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10B4-F508-4629-A8AD-136C2DE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F121-BF41-487C-BCA2-92CDE79C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2CAF6-AD9F-40E4-B349-810A4868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D169-95C3-4CAD-AD55-9507B3F6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05C9-C1C7-4948-96B9-3F882B37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FB6A-6858-40B6-B5A1-AA897B08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84B64-CCAC-46F4-BD93-AB3FED7A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9D9-8C9C-43C7-AB05-4E2658F9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F06B-0984-493D-8F30-5B95FED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3981E-7550-443D-8499-A1EB50E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575D3-AEBC-4A4A-86E4-A8B1C20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D66A-9178-4382-9900-7CF865AD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F244-BC9F-4127-A830-141F2A91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1648-15BB-49AB-B0D7-E2CCF11B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498C6-6686-48BB-85A0-33C40C6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F046B-9377-4C11-A272-7714AD8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3307-8734-4AFF-A966-A5E05427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2D489-A9F2-4E83-A2BB-2D241A18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F9A-5D8F-4923-823F-2A86F3A8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607A-AC18-4801-911E-85129471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80100-BB40-487E-B033-49DB8A92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66E24-9265-45BF-A422-18EF9DA1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FA4D6-0898-4439-81A7-5C760FDA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4D05-3327-43D7-B844-746B766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25CC9-2221-42B7-A822-436AAD51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088B-2968-4516-8F13-F5F57A7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59A7-4A25-4236-8130-097D0E6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CB511-4E8A-4C0D-A3D6-134D3BC3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945B7-FE19-4F18-8B78-8B95EDA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E1E-4050-4FE1-923B-8C1966D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3523-B71F-4506-9925-CCAAD714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646CB-5645-4E29-9895-50365FE8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F355A-ADA3-4EBB-9110-E3F3C9C8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895C1-8CF7-4FED-BDE1-B484CCAE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77E2-459B-49CA-8973-CA16210B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156D3-47B2-45F1-925F-410439EB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35F62-2640-4D7D-9BA1-9F9EB889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9FB2-42BF-4E7E-96B4-8FCF6B3B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7E646-AED1-45EE-802E-80C75B5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8F59-DD39-4E52-8F7D-389603C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0DE-B0E2-4BE2-A454-1A64E53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C3D0-B517-46CE-86AD-F28316F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313A-57FA-4920-8C85-7C8E296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4B72-D7C0-4BA0-A48C-F65795FC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88781-45C8-420D-A30F-D2730F67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29E7-89EC-43C1-9A2D-24CEA89E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F9B-76E8-4983-B4AC-01672FC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5DD9-9BDE-46E9-AA6C-A6F7A6D0541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D7D1-03E3-4913-B5D3-3A6223D4C1E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0A95-C2C3-4753-8FA7-AC83FCE42D7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3EAC-F1AC-4EBF-94B0-0050D47042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BF33-B322-45C1-8815-ED7C20A1BF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5A94-70DE-46E6-8529-F75286DEDA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156-1E54-40D4-88F7-4F63AD6EA7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Формирование здорового образа жизни для учащихся начальной школ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2" descr="C:\Users\panina\Documents\Pressa\Должностные документы\День здоровья\2018\слайд\tooopen_sy_163215415191.jpg"/>
          <p:cNvPicPr/>
          <p:nvPr/>
        </p:nvPicPr>
        <p:blipFill>
          <a:blip r:embed="rId1"/>
          <a:stretch/>
        </p:blipFill>
        <p:spPr>
          <a:xfrm>
            <a:off x="1332000" y="2205000"/>
            <a:ext cx="6100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92360" y="2455560"/>
            <a:ext cx="21052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Как передается инфекция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Picture 2" descr="C:\Users\panina\Documents\Pressa\Должностные документы\День здоровья\2018\слайд\21938202-mutnaya-voda-v-stakane.jpg"/>
          <p:cNvPicPr/>
          <p:nvPr/>
        </p:nvPicPr>
        <p:blipFill>
          <a:blip r:embed="rId1"/>
          <a:stretch/>
        </p:blipFill>
        <p:spPr>
          <a:xfrm>
            <a:off x="6014880" y="4005360"/>
            <a:ext cx="2157480" cy="2430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panina\Documents\Pressa\Должностные документы\День здоровья\2018\слайд\11111-300x292.jpg"/>
          <p:cNvPicPr/>
          <p:nvPr/>
        </p:nvPicPr>
        <p:blipFill>
          <a:blip r:embed="rId2"/>
          <a:stretch/>
        </p:blipFill>
        <p:spPr>
          <a:xfrm>
            <a:off x="611280" y="549360"/>
            <a:ext cx="2857320" cy="2781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panina\Documents\Pressa\Должностные документы\День здоровья\2018\слайд\1328596075_4f89edd39512.jpg"/>
          <p:cNvPicPr/>
          <p:nvPr/>
        </p:nvPicPr>
        <p:blipFill>
          <a:blip r:embed="rId3"/>
          <a:stretch/>
        </p:blipFill>
        <p:spPr>
          <a:xfrm>
            <a:off x="609480" y="3789360"/>
            <a:ext cx="2592360" cy="2224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panina\Documents\Pressa\Должностные документы\День здоровья\2018\слайд\bakterii-na-rukah.jpg"/>
          <p:cNvPicPr/>
          <p:nvPr/>
        </p:nvPicPr>
        <p:blipFill>
          <a:blip r:embed="rId4"/>
          <a:stretch/>
        </p:blipFill>
        <p:spPr>
          <a:xfrm>
            <a:off x="5991120" y="539640"/>
            <a:ext cx="2448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C:\Users\panina\Documents\Pressa\Должностные документы\День здоровья\2018\слайд\чистота всего полезней - сохранит от всех болезней.jpg"/>
          <p:cNvPicPr/>
          <p:nvPr/>
        </p:nvPicPr>
        <p:blipFill>
          <a:blip r:embed="rId1"/>
          <a:stretch/>
        </p:blipFill>
        <p:spPr>
          <a:xfrm>
            <a:off x="250920" y="217440"/>
            <a:ext cx="872496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удьте здоров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2" descr="C:\Users\panina\Documents\Pressa\Должностные документы\День здоровья\2018\слайд\9537.gif"/>
          <p:cNvPicPr/>
          <p:nvPr/>
        </p:nvPicPr>
        <p:blipFill>
          <a:blip r:embed="rId1"/>
          <a:stretch/>
        </p:blipFill>
        <p:spPr>
          <a:xfrm>
            <a:off x="252360" y="1700280"/>
            <a:ext cx="86392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35276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ndara"/>
              </a:rPr>
              <a:t>Читайте книги – развивайте разум и расширяйте кругозор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Заголовок 1"/>
          <p:cNvSpPr/>
          <p:nvPr/>
        </p:nvSpPr>
        <p:spPr>
          <a:xfrm>
            <a:off x="4148280" y="5622840"/>
            <a:ext cx="4316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ndara"/>
              </a:rPr>
              <a:t>Занимайтесь спортом – укрепляйте тело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ndara"/>
              </a:rPr>
              <a:t>и дух!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9" name="Picture 2" descr="C:\Users\panina\Documents\Pressa\Должностные документы\День здоровья\2018\слайд\thumbnail_meleti.jpg"/>
          <p:cNvPicPr/>
          <p:nvPr/>
        </p:nvPicPr>
        <p:blipFill>
          <a:blip r:embed="rId1"/>
          <a:stretch/>
        </p:blipFill>
        <p:spPr>
          <a:xfrm>
            <a:off x="674640" y="1125360"/>
            <a:ext cx="3176640" cy="2345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C:\Users\panina\Documents\Pressa\Должностные документы\День здоровья\2018\слайд\pic-12-800x445.jpg"/>
          <p:cNvPicPr/>
          <p:nvPr/>
        </p:nvPicPr>
        <p:blipFill>
          <a:blip r:embed="rId2"/>
          <a:stretch/>
        </p:blipFill>
        <p:spPr>
          <a:xfrm>
            <a:off x="4024440" y="2852640"/>
            <a:ext cx="4846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до, надо умываться по утрам и вечерам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2" descr="C:\Users\panina\Documents\Pressa\Должностные документы\День здоровья\2018\слайд\199080567.gif"/>
          <p:cNvPicPr/>
          <p:nvPr/>
        </p:nvPicPr>
        <p:blipFill>
          <a:blip r:embed="rId1"/>
          <a:stretch/>
        </p:blipFill>
        <p:spPr>
          <a:xfrm>
            <a:off x="2843280" y="2146320"/>
            <a:ext cx="2846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C:\Users\panina\Documents\Pressa\Должностные документы\День здоровья\2018\слайд\58097507_w1200-1024x831.jpg"/>
          <p:cNvPicPr/>
          <p:nvPr/>
        </p:nvPicPr>
        <p:blipFill>
          <a:blip r:embed="rId1"/>
          <a:stretch/>
        </p:blipFill>
        <p:spPr>
          <a:xfrm>
            <a:off x="2340000" y="1101600"/>
            <a:ext cx="4003560" cy="32497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Здоровые зубы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684360" y="458136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andara"/>
              </a:rPr>
              <a:t>Необходимо: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andara"/>
              </a:rPr>
              <a:t>Чистить зубы утром и вечером;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andara"/>
              </a:rPr>
              <a:t>Полоскать рот после каждого приема пищи;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andara"/>
              </a:rPr>
              <a:t>Регулярно посещать стоматолога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buClr>
                <a:srgbClr val="ff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80000"/>
              </a:lnSpc>
              <a:buClr>
                <a:srgbClr val="ff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едметы личной гигиен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2" descr="C:\Users\panina\Documents\Pressa\Должностные документы\День здоровья\2018\слайд\11kl_Gigiena02.jpg"/>
          <p:cNvPicPr/>
          <p:nvPr/>
        </p:nvPicPr>
        <p:blipFill>
          <a:blip r:embed="rId1"/>
          <a:stretch/>
        </p:blipFill>
        <p:spPr>
          <a:xfrm>
            <a:off x="1433520" y="2276640"/>
            <a:ext cx="62769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Утренняя гимнастика и физическая куль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C:\Users\panina\Documents\Pressa\Должностные документы\День здоровья\2018\слайд\1.jpg"/>
          <p:cNvPicPr/>
          <p:nvPr/>
        </p:nvPicPr>
        <p:blipFill>
          <a:blip r:embed="rId1"/>
          <a:stretch/>
        </p:blipFill>
        <p:spPr>
          <a:xfrm>
            <a:off x="1539720" y="2276640"/>
            <a:ext cx="6070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лезные продук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2" descr="C:\Users\panina\Documents\Pressa\Должностные документы\День здоровья\2018\слайд\Bread.jpg"/>
          <p:cNvPicPr/>
          <p:nvPr/>
        </p:nvPicPr>
        <p:blipFill>
          <a:blip r:embed="rId1"/>
          <a:stretch/>
        </p:blipFill>
        <p:spPr>
          <a:xfrm>
            <a:off x="5546880" y="4481640"/>
            <a:ext cx="2730240" cy="1800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C:\Users\panina\Documents\Pressa\Должностные документы\День здоровья\2018\слайд\moloko1.jpg"/>
          <p:cNvPicPr/>
          <p:nvPr/>
        </p:nvPicPr>
        <p:blipFill>
          <a:blip r:embed="rId2"/>
          <a:stretch/>
        </p:blipFill>
        <p:spPr>
          <a:xfrm>
            <a:off x="395280" y="1271520"/>
            <a:ext cx="3600360" cy="1709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Users\panina\Documents\Pressa\Должностные документы\День здоровья\2018\слайд\Овощи-и-фрукты.jpeg"/>
          <p:cNvPicPr/>
          <p:nvPr/>
        </p:nvPicPr>
        <p:blipFill>
          <a:blip r:embed="rId3"/>
          <a:stretch/>
        </p:blipFill>
        <p:spPr>
          <a:xfrm>
            <a:off x="5003640" y="1271520"/>
            <a:ext cx="3286440" cy="1847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C:\Users\panina\Documents\Pressa\Должностные документы\День здоровья\2018\слайд\33233550.jpg"/>
          <p:cNvPicPr/>
          <p:nvPr/>
        </p:nvPicPr>
        <p:blipFill>
          <a:blip r:embed="rId4"/>
          <a:stretch/>
        </p:blipFill>
        <p:spPr>
          <a:xfrm>
            <a:off x="395280" y="4297320"/>
            <a:ext cx="3097080" cy="231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C:\Users\panina\Documents\Pressa\Должностные документы\День здоровья\2018\слайд\krup-660x533.jpg"/>
          <p:cNvPicPr/>
          <p:nvPr/>
        </p:nvPicPr>
        <p:blipFill>
          <a:blip r:embed="rId5"/>
          <a:stretch/>
        </p:blipFill>
        <p:spPr>
          <a:xfrm>
            <a:off x="3059280" y="2871720"/>
            <a:ext cx="25668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Закаляйся, если хочешь быть здоров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Заголовок 1"/>
          <p:cNvSpPr/>
          <p:nvPr/>
        </p:nvSpPr>
        <p:spPr>
          <a:xfrm>
            <a:off x="5292720" y="1125360"/>
            <a:ext cx="3600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ndara"/>
              </a:rPr>
              <a:t>Закаляться нужно постепенно и регулярно!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ndara"/>
              </a:rPr>
              <a:t>Закаливание должно приносить радость и бодрость!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ndara"/>
              </a:rPr>
              <a:t>Нужно сочетать закаливание с физкультурой!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8" name="Picture 2" descr="C:\Users\panina\Documents\Pressa\Должностные документы\День здоровья\2018\слайд\Zhit-bez-prostud.jpg"/>
          <p:cNvPicPr/>
          <p:nvPr/>
        </p:nvPicPr>
        <p:blipFill>
          <a:blip r:embed="rId1"/>
          <a:stretch/>
        </p:blipFill>
        <p:spPr>
          <a:xfrm>
            <a:off x="395280" y="1989000"/>
            <a:ext cx="47530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ледите за осанкой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2" descr="C:\Users\panina\Documents\Pressa\Должностные документы\День здоровья\2018\слайд\narushenie-osanki-3_0.jpg"/>
          <p:cNvPicPr/>
          <p:nvPr/>
        </p:nvPicPr>
        <p:blipFill>
          <a:blip r:embed="rId1"/>
          <a:stretch/>
        </p:blipFill>
        <p:spPr>
          <a:xfrm>
            <a:off x="826920" y="1773360"/>
            <a:ext cx="756144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2:31:28Z</dcterms:created>
  <dc:creator>Юлия Б. Головина</dc:creator>
  <dc:description/>
  <dc:language>en-US</dc:language>
  <cp:lastModifiedBy>Юлия Б. Головина</cp:lastModifiedBy>
  <dcterms:modified xsi:type="dcterms:W3CDTF">2018-04-03T07:47:47Z</dcterms:modified>
  <cp:revision>14</cp:revision>
  <dc:subject/>
  <dc:title>Формирование здорового образа жизни для учащихся начальной школы</dc:title>
</cp:coreProperties>
</file>